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496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26460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964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751D-1799-49BF-B057-F44A66B2F0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nde sea necesario, recordar a los participantes los mensajes cl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nsajes Cl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n buen gobierno ayuda a los países ricos en petróleo, gas y minerales a traducir esa riqueza en crecimiento económico y reducción de la pobreza. Cuando el gobierno es débil, estos recursos pueden actuar como una "maldición" que resulta en mala gestión, corrupción, pobreza y conflict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 Iniciativa por la Transparencia de las Industrias Extractivas (ITIE/EITI) aboga por la transparencia sobre los ingresos - ofreciendo un enfoque sólido y flexible para conciliar los pagos de la industria con los ingresos del gobier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formar a los participante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que ellos también recibirán un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uestionario de seguimiento.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El propósito es medir la eficacia del evento de capacitación, después de que hayan regresado a sus lugares de trabajo. Llegará después de un hito importante en la sociedad civil y/o un plan de trabajo de la ITIE/EITI, tal como la publicación de un informe fina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0303-F99E-4330-BC24-3DC815CB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ECBC-01F5-4061-A079-3E0DDDB1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86D-6429-4732-B4CF-0C6F24B4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048-12AB-4C3F-9525-2552E6D5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B9C6-7AFA-4286-AD51-5A5CB2DB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952-6F76-47A3-BA64-9842719C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9EB-0A99-4F4D-A091-B27189C0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73B8-6EDD-419B-A856-90B76D44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809D-825A-49E5-BBE2-9A9D4804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DB98-5D2D-4B63-82D1-2DFA5FEE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274-1274-4758-AB2F-95CBE2AA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535-3132-40B6-BD31-0547D0F0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2F45-253A-41D4-B060-0744CD778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_UNSSC_pantone_660_small"/>
          <p:cNvPicPr/>
          <p:nvPr/>
        </p:nvPicPr>
        <p:blipFill>
          <a:blip r:embed="rId2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Dinámica: </a:t>
            </a:r>
            <a:br>
              <a:rPr sz="4400"/>
            </a:b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Gran Concurso EBDH-GB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ósi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undir y sorprender a tus colega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Instruccion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920" y="907560"/>
            <a:ext cx="84088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 grupos ... (15 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criba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inco pregunta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obre el EBDH y GBR que dejen perplejos a sus coleg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 preguntas pueden estar formuladas en cualquier for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dadero/falso, tipo test, nar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jemp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es son lo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es principios más normativos, en orden invers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es son las tres obligaciones de los titulares de obligacion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r un ejemplo sencillo usando 'vivienda‘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 es la sigla oficial del "Examen Periódico Universal" en francés y en españ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 es el Día de los Derechos Humanos, y qué conmemo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mbre tres instrumentos regionales (¡es una pregunta con trampa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Quién aparece con más frecuencia en imágenes sosteniendo la Declaración Univers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pare sus 5 preguntas en un rotafolios - mantenerlo ocu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¡A divertirse!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900" spc="-1" strike="noStrike">
                <a:solidFill>
                  <a:srgbClr val="0000ff"/>
                </a:solidFill>
                <a:latin typeface="Arial"/>
              </a:rPr>
              <a:t>Evaluación</a:t>
            </a:r>
            <a:endParaRPr b="1" lang="en-US" sz="59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09:07:36Z</dcterms:created>
  <dc:creator>goodale</dc:creator>
  <dc:description/>
  <dc:language>en-US</dc:language>
  <cp:lastModifiedBy>OHCHR</cp:lastModifiedBy>
  <dcterms:modified xsi:type="dcterms:W3CDTF">2011-03-19T16:33:53Z</dcterms:modified>
  <cp:revision>785</cp:revision>
  <dc:subject/>
  <dc:title>PowerPoint Presentation</dc:title>
</cp:coreProperties>
</file>